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14B-2184-481B-82A9-9B94C745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1DF-5B6C-4892-A69B-A76BCC5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CF8-20F7-4F4E-9E89-184D0E4E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3F7-23ED-4BD3-B1AE-941F0D70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8FE-B353-43CD-8E72-1E801B81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0B3F-5AC7-4680-BD81-9C0EDC6E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F4BB-6540-436D-AA4A-4AF004E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8AB-6DEB-495C-9036-CE8E662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E10D-17C5-40B9-88C2-D346CE3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8B77-CDD6-4B7A-B2E1-2AEF3996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0C7A-C900-4CDC-9D22-DCACA63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3A7-7736-407D-9262-E128A7F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3F0-78C0-4426-A9EC-008A71E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CC2A-CA42-471B-8C9D-7D14FA5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196-934C-4005-8752-68F43944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BF1B-6CB3-474D-9E27-5BA7762C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CA26-106D-4255-9B78-09100A26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F03-AC68-459F-9A60-19E6E13B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ECC-92A6-4EE6-A302-8859F750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BE8-8036-4A18-985C-BB5B245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71B-75EB-4FE3-A954-CC36E5E3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AC6-FDD6-4339-A92D-E891329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34B-A59D-41BE-851F-1913DAA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FF0-E8CA-45D7-94F1-F1EF3F4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915D-058C-4E9C-BF57-2634164C56A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ADBF-2A71-4436-83AF-A560600F785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vision.com/lesson-plans/lesson-2204.html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4c2b"/>
                </a:solidFill>
                <a:latin typeface="Arial"/>
              </a:rPr>
              <a:t>Multiple Intelligences</a:t>
            </a:r>
            <a:endParaRPr b="0" lang="en-US" sz="5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"/>
              </a:rPr>
              <a:t>Howard Gardner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Naturalist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Natur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Classification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lora/Fauna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Pattern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Environment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orting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Memory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70360" y="1981080"/>
            <a:ext cx="3564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c2b"/>
                </a:solidFill>
                <a:latin typeface="Arial"/>
              </a:rPr>
              <a:t>Naturalist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Biologis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Zoologis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Artist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Environmentalis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andscaper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Game warde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harles Darwi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ohn Audubo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eriwether Lewi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arl Saga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erbal/Linguistic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Reading/Writ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Debate/Speec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Word puzzle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Spelling/Vocab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anguage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isten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erbal/Linguistic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peak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ct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each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ttorney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oliticia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Abraham Lincol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erry Seinfeld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artin L. K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T.S. Elio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Hemingway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Arial"/>
              </a:rPr>
              <a:t>Musical/Rhythmic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ing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laying instru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hythms/bea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mpos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oun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Musical/Rhythmic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mpos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nducto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ing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J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roduc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usicia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enry Mancin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ul McCartne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za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uciano Pavarott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gor Stravinsk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onard Bernste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Intrapersonal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elf-refl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Know Thyself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Journal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Emotional Process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ncentr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Focus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3809880" cy="3022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Arial"/>
              </a:rPr>
              <a:t>Intrapersonal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sychologis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searc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ite Athle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or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Famous Peop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ocrate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Emily Dickinso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igmund Freud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Marie Montessori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Plato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4c2b"/>
                </a:solidFill>
                <a:latin typeface="Arial"/>
              </a:rPr>
              <a:t>Interpersonal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ooperative Group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ollaboratio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Sensing/Intuiting others feeling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Uses feedback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Empathy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c2b"/>
                </a:solidFill>
                <a:latin typeface="Arial"/>
              </a:rPr>
              <a:t>Interpersonal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alespeop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ocial work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unsel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octor/Nur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sychiatris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other Theresa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Barbara Walter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ahatma Gandhi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immy Carter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arry K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c2b"/>
                </a:solidFill>
                <a:latin typeface="Arial"/>
              </a:rPr>
              <a:t>It’s not how smart we are;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33"/>
                </a:solidFill>
                <a:latin typeface="Arial"/>
              </a:rPr>
              <a:t>It’s how we are smart.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4c2b"/>
                </a:solidFill>
                <a:latin typeface="Arial"/>
              </a:rPr>
              <a:t>Overview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Verbal/Linguistic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Logical/Mathematic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Musical/Rhythmic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Naturalis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Visual/Spati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Intraperson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Interperson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Bodily/Kinesthetic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Word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logic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music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classifying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art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self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people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body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Multiple Intelligenc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yone has all eight of them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many ways to be “smart” in any one intelligenc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re not often isolated and usually work togethe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ith work, most people can become reasonably competent in all intellgenc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ssessment web si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440" y="1969920"/>
            <a:ext cx="220140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dd7e5"/>
                </a:solidFill>
                <a:uFillTx/>
                <a:latin typeface="Arial"/>
                <a:hlinkClick r:id="rId2"/>
              </a:rPr>
              <a:t>teachervis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5440" y="2655720"/>
            <a:ext cx="247896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eachervision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160" y="3341520"/>
            <a:ext cx="342828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ccelerate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120" y="4027320"/>
            <a:ext cx="424224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Century Schoolho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2720" y="4800600"/>
            <a:ext cx="409572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 Think…Therefore…M.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2480" y="5627520"/>
            <a:ext cx="178380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ulti-inte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7640" y="1817640"/>
            <a:ext cx="130392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4c2b"/>
                </a:solidFill>
                <a:latin typeface="Arial"/>
              </a:rPr>
              <a:t>Intelligence</a:t>
            </a:r>
            <a:endParaRPr b="0" lang="en-US" sz="9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Definition- aptitude (the ability to learn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Multiple Intelligences explain how we lear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isual/Spatial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inks in 3-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ictures in min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Great imagin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Hand-eye relationship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esign/col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isual/Spatial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ail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ulptors/paint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gine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ilo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ign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rchitec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ge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Famous Peop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. da Vinc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icas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ank Lloyd Wrigh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obby Fisc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.M.Pe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guste Rod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Logical/Mathematical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eas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nalyz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Uses logi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Uses numb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roblem-solv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ees patter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11480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Logical/Mathematical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thematici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cienti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ccountant/Bank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nto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tectiv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gine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m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bert Einste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ephan Hawk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gatha Christ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rl Sag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4c2b"/>
                </a:solidFill>
                <a:latin typeface="Arial"/>
              </a:rPr>
              <a:t>Bodily/Kinesthetic</a:t>
            </a:r>
            <a:endParaRPr b="0" lang="en-US" sz="65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0920" y="1981080"/>
            <a:ext cx="341964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Activity/motion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Hands-on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Experimental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Manipulat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Participat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Body languag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Arial"/>
              </a:rPr>
              <a:t>Bodily/Kinesthetic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thle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ancer/Act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erform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hysical Therapis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arcel Marceau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ichael Jorda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Babe Rut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Kristy Yamaguchi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ackie Joyner-Kersey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5:01:20Z</dcterms:created>
  <dc:creator>Stephanie Hanson</dc:creator>
  <dc:description/>
  <dc:language>en-US</dc:language>
  <cp:lastModifiedBy>Stephanie Hansen</cp:lastModifiedBy>
  <cp:lastPrinted>2001-01-05T05:45:01Z</cp:lastPrinted>
  <dcterms:modified xsi:type="dcterms:W3CDTF">2001-11-20T19:58:50Z</dcterms:modified>
  <cp:revision>16</cp:revision>
  <dc:subject/>
  <dc:title>Multiple Intelligences</dc:title>
</cp:coreProperties>
</file>